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AB2-E5A4-4A15-8988-BE54F1E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1BB-65AB-47EF-9431-5821FAF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F7C-6F40-458E-97A6-F84D06D9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312-2DA4-4FEA-B9BB-7495A5CD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0575-4318-472D-88B6-8113808F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DC04-76A0-4D92-8D31-F0E7747C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B93F-E706-43F2-9720-F7A7912B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DDDE-7E58-43CD-86F6-9308B29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043D-291B-4C70-A61B-096B7CFA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08B6-3FAC-426F-8468-1853933A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D23D-1351-4958-905C-703EB34D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6B5-0DBE-4D88-98FF-4C4CF7E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9005-3DA1-4419-BE05-DBBA832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936F-DAA2-4FCA-A99F-CCA0216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DC0A-E00A-40B0-9570-16E33FB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BE5-32B3-4629-BF71-A00854BD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FFFD-DE3B-4AA8-B036-8E8F1C2F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5BC-EE1E-417F-A7B6-2717F7F8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3B6-7650-4CEC-BAE4-507F37C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A64-1E13-4492-8B3B-39EF9E8F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A78-46E3-4BBE-913E-4DC5E27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8D3-154E-43E4-B8AF-F2EDA49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A1D-4B1A-46AD-A19A-BFFE621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EBA-070F-4869-8893-9D02569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5440" indent="-3816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9160" indent="-3283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9600" indent="-2934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76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51D3-A2EE-41AC-A743-E56504B16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8BD-80A5-461D-9BA8-89DFE415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116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508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Matter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y i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Matter is made of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cket is chir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=n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ck birds won’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 as much beca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ease damag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vocal 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boils at 100 degrees Celsius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 are capable of cutting glass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an be separated by electrolysis into hydrogen and oxygen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is capable of dissolving in water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egar will react with baking soda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st acts on sugar to form carbon dioxide and ethanol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 is flammable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is a gas at room temperature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mine has a red color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actice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deal, but now with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 is chopped into four equal pi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placed in a freezer turns to 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usts in a damp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and sugar are poured into a cup and shaken until evenly distrib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s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oline burns in the presence of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peroxide decomposes to oxygen and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g is chopped into four equal pieces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placed in a freezer turns to ice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rusts in a damp environment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 and sugar are poured into a cup and shaken until evenly distributed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is dissolved in water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oline burns in the presence of oxygen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 decomposes to oxygen and water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Mystery Powder Lab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making predictions and hypo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istinguishing between physical and chem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complete page 1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ight be examples of physical properties that powders could have?  Chemical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 and 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physical and a chemical prop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physical and a chemical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Mystery Powder Lab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ggles 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handling liquids, some of them can stain your 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oughly wash your glassware after each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eck your procedure with me before you can conti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hat your observations ARE observ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Homework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y Powder lab will be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Objectiv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perties as being physical or chem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making observations, predictions, and hypo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 of this is gearing up for being able to put together your own experimental desig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For Starter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ould please… list as many things as you can think of that could be different depending upon what the thing or substanc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erty is a quality that something possesses.  We break down the properties of matter into two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Property: Can be observed without a chemical reaction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you can think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emical Property: Property having to do with the substance’s chemical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examples for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, physical changes are changes to a physical property, chemical changes changes to a chemical property.  More precis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hange: Change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ran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f the substance, but not what i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mical Change: Chang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the substance i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t the molecular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actice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icker to the pair who gets the most of these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ether each of these is a physical change or a chemic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oils at 100 degrees Cels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s are capable of cutting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can be separated by electrolysis into hydrogen and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apable of dissolving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egar will react with baking s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st acts on sugar to form carbon dioxide and eth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is flamm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a is a gas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mine has a red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42:21Z</dcterms:created>
  <dc:creator>Rebecca Stang</dc:creator>
  <dc:description/>
  <dc:language>en-US</dc:language>
  <cp:lastModifiedBy>Rebecca Stang</cp:lastModifiedBy>
  <dcterms:modified xsi:type="dcterms:W3CDTF">2009-08-28T18:18:39Z</dcterms:modified>
  <cp:revision>16</cp:revision>
  <dc:subject/>
  <dc:title>Matter</dc:title>
</cp:coreProperties>
</file>